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AD7-C57A-4BCF-8675-593D2416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D1B-B80F-4AB0-922C-2726A717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4D3-131A-4A3E-83BA-9855F73E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B28-D062-4BBB-B8F5-FC55FB7C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3E9D-C10F-4327-8DE9-1E177001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81F-95AF-4A6C-A8F0-3830ADEB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B2E-33F8-48FA-8420-D090409E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FF0-B88E-4D01-B8CE-7433F5EE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87A-721F-45A3-B427-51874EE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53A-C22F-4EE7-967F-AF387C5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722-0040-4203-A9BF-F02ACA2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106-E980-4E9E-9834-87F4AD3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64F8-BEC9-457C-85A9-10E96EE6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S3 Intermedi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ketball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s an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ap Less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dnesday 15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o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hoose two weaknesses (one from zone and one from fast break).  This will be the element you try and improve next y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wo reasons you want to improve this element.  What effect will this have on your g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you should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 in 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ies and skills needed to play each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st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ather information about your strengths an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les/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e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ard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, fast, agile, good ball handling skills, accurate passing, good 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e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ard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, fast, agile, good ball handling skills, accurate passing, good 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, strong, tall, rebounder, blocker, good shooting and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uctures and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 break = Strategy (Tac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defence = Structure (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both you need to know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benefi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limitation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/when you would us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ructures and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group create a mind map that includes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look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benefi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limitatio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/when you would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15mins to complete this t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thering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ather information in basketball we have used Observation schedul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completed while we played a competitive game by an observer at the side.  The observer placed a tick or cross in the appropriate box when an action was completed.  The observation schedule gives us information on our strengths and weakn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26920" y="509760"/>
            <a:ext cx="7848720" cy="634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8013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alysing information ga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at we have gathered information we can no analyse it to set training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your schedules in your folder and answer the following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50976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alysing information ga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at least one example for each 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zone defence schedule describe the strength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zone defence schedule describe the Weaknesse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Fast break schedule describe the strength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Fast break schedule describe the weaknesses in your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8:47:05Z</dcterms:created>
  <dc:creator>hamiltonp</dc:creator>
  <dc:description/>
  <dc:language>en-US</dc:language>
  <cp:lastModifiedBy>hamiltonp</cp:lastModifiedBy>
  <dcterms:modified xsi:type="dcterms:W3CDTF">2010-09-14T09:02:34Z</dcterms:modified>
  <cp:revision>2</cp:revision>
  <dc:subject/>
  <dc:title> S3 Intermediate</dc:title>
</cp:coreProperties>
</file>